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FE0-48CB-4172-B604-A5AA6A7A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1D2-69EF-4059-8949-183AFA3B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BBF-276B-4524-8E5F-6CFFE8E2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65C-B503-43B5-B4CE-48831E6B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C95-DCE3-47BE-9AD7-403A93DB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847F-A2E5-4E2B-9332-5599545C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592-18C0-4D49-BD50-14AC9B50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AF1E-A489-4264-BDE4-ECD062DB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D43D-3F31-4F88-B4AD-7BEFA1DE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E1E-44CC-4E1B-B23E-5B271B5D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074-B306-48BC-931E-79696EC2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012-0250-4162-A646-7D199824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ED3E-A336-4DF8-86E5-CD16C491C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u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•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ing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ed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761760" y="1905120"/>
            <a:ext cx="60948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60948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181480" y="1905120"/>
            <a:ext cx="60984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1905120"/>
            <a:ext cx="60984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Bafayad</cp:lastModifiedBy>
  <dcterms:modified xsi:type="dcterms:W3CDTF">2004-05-01T15:44:15Z</dcterms:modified>
  <cp:revision>5</cp:revision>
  <dc:subject/>
  <dc:title>عرض تقديمي من PowerPoint</dc:title>
</cp:coreProperties>
</file>